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6.jpeg" ContentType="image/jpeg"/>
  <Override PartName="/ppt/media/image5.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BE399-A1BC-4109-86A3-CE6E0126D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AFD20-CD10-4C5B-BBE8-95F551047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55242-0771-4642-B6E6-FA0E2856D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43D8C-E57C-4C8E-A700-DB7E70777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770EC-DA34-4E12-85EA-C5E6626D9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1DD2C-3AFE-4865-8537-8B0E03383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120DF-5EA2-4201-B5C9-CA1C27C9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3DE39-AB38-42A7-897D-4F51D077B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D6A9B-84E5-40AE-89F5-9135E1BF2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73153-4555-45C0-AA48-BAC985730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34319-C4DC-4DAF-9063-23625EF45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20B5-64F8-486D-BF19-C7DB82659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A0E6-7ED2-4988-8890-B9EDFE48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22386-A44A-42F3-9316-3D8BBD237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828D2-62DC-440C-8B03-53E9586AD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BAB43-7BF8-4040-9161-72C869234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623D8-5214-48FB-B2F3-F6A150804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64D4E8-5353-4EB5-B494-52F0E7C67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E7C54-250A-402E-9948-4045516A7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498C3-2CE0-469F-A3EB-092CA2175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A1ADE-2D2C-44D8-9277-74E9F5F0E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EFFC4-C74A-49F0-8D55-63BA292A3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80CE-EBFA-4855-BD41-80AC4BEF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6989F-0D3C-4CCB-9154-1D4D51699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DA82E-22AE-4892-9F9A-ED41DFCF5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FCA2E-7E13-49FD-BE10-4FF70D456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EB330-B29D-4344-9784-13009481D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0D681-BA6A-41C3-B1CE-A84F58FE1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5156F5-DFDE-4B01-BA58-12F489144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A260C-7AF5-4C8A-A784-BA807BCA0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D7107C-1596-40CD-BA17-5C3941CD4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FE7AA-ED52-4796-85B1-99B4F1DB4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0C04E-2C6C-45EA-B358-205AB455F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94DB-BB8F-442B-BB7E-DD433E1B2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EF8A0-71EB-4AD6-B001-F0F9A32A6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F0CC4-239E-4F8A-B759-C64BE95A8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5DE13-15B9-45FC-BF3F-9EFEC4AE1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4E2C9-544C-4ABA-8B38-FD9423641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DDFC9-FAE3-4C04-B370-9B558F47C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3F2CA-76BC-4C34-AF54-AC49F946C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E38F2-7A6B-4B42-957E-4204277DD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08FBF4-385C-42FC-8A2D-241E04EEA2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F9EB75-B1BF-4029-955F-3568D2789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33B20-93BC-493E-93D6-2BC240B12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663D-3CD3-4EE4-9EA7-B5E6361D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1C4E-CD5C-437C-B5C0-A9F71AE5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4A61-0BAF-4F9F-8AC2-C23705DE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8FD2-A88B-4818-BD18-713D65958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CB29-E235-4C51-BAC5-75BE3F86CCB2}"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8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2"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PlaceHolder 4"/>
          <p:cNvSpPr>
            <a:spLocks noGrp="1"/>
          </p:cNvSpPr>
          <p:nvPr>
            <p:ph type="ftr" idx="5"/>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PlaceHolder 5"/>
          <p:cNvSpPr>
            <a:spLocks noGrp="1"/>
          </p:cNvSpPr>
          <p:nvPr>
            <p:ph type="sldNum" idx="6"/>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97BA-200B-46CB-830A-3B57FAED5181}"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24" name="Group 2"/>
          <p:cNvGrpSpPr/>
          <p:nvPr/>
        </p:nvGrpSpPr>
        <p:grpSpPr>
          <a:xfrm>
            <a:off x="0" y="0"/>
            <a:ext cx="9140760" cy="6851520"/>
            <a:chOff x="0" y="0"/>
            <a:chExt cx="9140760" cy="6851520"/>
          </a:xfrm>
        </p:grpSpPr>
        <p:sp>
          <p:nvSpPr>
            <p:cNvPr id="125"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6"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7"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8"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7" name="Group 15"/>
            <p:cNvGrpSpPr/>
            <p:nvPr/>
          </p:nvGrpSpPr>
          <p:grpSpPr>
            <a:xfrm>
              <a:off x="304920" y="3625920"/>
              <a:ext cx="1990440" cy="1465200"/>
              <a:chOff x="304920" y="3625920"/>
              <a:chExt cx="1990440" cy="1465200"/>
            </a:xfrm>
          </p:grpSpPr>
          <p:sp>
            <p:nvSpPr>
              <p:cNvPr id="138"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3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7"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48"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49"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53"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54"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56"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7"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58"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0"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39AA-1A65-44EC-A143-326CEAF660B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0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09"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0" name="PlaceHolder 4"/>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PlaceHolder 5"/>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02BA-89B6-437E-9C2C-4E87B6FC21D2}"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u.mio.com/el_gr/global-positioning-system_how-does-gps-work.ht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coolweb.gr/ti-einai-gps-pos-leitourgei/"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xplain.gr/index.php/2009-12-24-19-42-17/62--gps/"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052640"/>
            <a:ext cx="9144000" cy="220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ΡΓΑΣΙΑ ΑΣΥΡΜΑΤΑ ΔΙΚΤΥΑ  ΟΜΑΔΑ  3</a:t>
            </a:r>
            <a:br>
              <a:rPr sz="4000"/>
            </a:br>
            <a:r>
              <a:rPr b="0" lang="el-GR" sz="4000" spc="-1" strike="noStrike">
                <a:solidFill>
                  <a:srgbClr val="ffff99"/>
                </a:solidFill>
                <a:latin typeface="Arial"/>
              </a:rPr>
              <a:t> ΓΙΩΡΓΟΣ  ΧΑΪΔΕΜΕΝΟΣ  ΒΠ</a:t>
            </a:r>
            <a:endParaRPr b="0" lang="en-US" sz="4000" spc="-1" strike="noStrike">
              <a:solidFill>
                <a:srgbClr val="ffff99"/>
              </a:solidFill>
              <a:latin typeface="Arial"/>
            </a:endParaRPr>
          </a:p>
        </p:txBody>
      </p:sp>
      <p:sp>
        <p:nvSpPr>
          <p:cNvPr id="249"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ΤΙ Ε</a:t>
            </a:r>
            <a:r>
              <a:rPr b="0" lang="en-US" sz="3200" spc="-1" strike="noStrike">
                <a:solidFill>
                  <a:srgbClr val="ffffff"/>
                </a:solidFill>
                <a:latin typeface="Verdana"/>
              </a:rPr>
              <a:t>I</a:t>
            </a:r>
            <a:r>
              <a:rPr b="0" lang="el-GR" sz="3200" spc="-1" strike="noStrike">
                <a:solidFill>
                  <a:srgbClr val="ffffff"/>
                </a:solidFill>
                <a:latin typeface="Verdana"/>
              </a:rPr>
              <a:t>ΝΑΙ ΤΟ</a:t>
            </a:r>
            <a:r>
              <a:rPr b="0" lang="en-US" sz="3200" spc="-1" strike="noStrike">
                <a:solidFill>
                  <a:srgbClr val="ffffff"/>
                </a:solidFill>
                <a:latin typeface="Verdana"/>
              </a:rPr>
              <a:t> GPS;</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Η πλέον προφανής εφαρμογή GPS είναι η δορυφορική πλοήγηση για οχήματα, αεροσκάφη και πλοία. Παρέχει σε όλους όσοι διαθέτουν ένα λήπτη GPS τη δυνατότητα να προσδιορίζουν τη ταχύτητα και τη θέση τους στο χάρτη, στον αέρα ή στη θάλασσα, με εξαιρετική ακρίβεια. Οι οδηγοί μπορούν να χρησιμοποιούν φορητές συσκευές δορυφορικής πλοήγησης αυτοκινήτου για να ακολουθήσουν μία διαδρομή, να εντοπίζουν εναλλακτικά δρομολόγια για την παράκαμψη κυκλοφοριακών προβλημάτων και με το εγκαταστημένο πρόσθετο λογισμικό να λαμβάνουν ενημερώσεις και προειδοποιήσεις σχετικές με τις θέσεις καμερών ασφάλειας.</a:t>
            </a:r>
            <a:br>
              <a:rPr sz="1600"/>
            </a:br>
            <a:br>
              <a:rPr sz="1600"/>
            </a:br>
            <a:r>
              <a:rPr b="0" lang="el-GR" sz="1600" spc="-1" strike="noStrike">
                <a:solidFill>
                  <a:srgbClr val="000000"/>
                </a:solidFill>
                <a:latin typeface="Comic Sans MS"/>
              </a:rPr>
              <a:t>Το GPS χρησιμοποιείται από μία πληθώρα διαφορετικών χρηστών. Άτομα που πεζοπορούν και άλλοι φυσιολάτρες μπορούν να χρησιμοποιούν δέκτες GPS για να ελέγχουν κατά πόσον ακολουθούν την επιλεγμένη διαδρομή και να επισημαίνουν σημεία συνάντησης κατά μήκος αυτής. Τα άτομα που συμμετέχουν στο παιχνίδι της γεωαναζήτησης, ένα είδος κυνηγιού θησαυρού της ψηφιακής εποχής που χρησιμοποιεί ακριβή σήματα GPS για να βοηθήσει τους παίκτες να εντοπίσουν μία κρυψώνα.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http://eu.mio.com/el_gr/global-positioning-system_applications-of-gp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336666"/>
                </a:solidFill>
                <a:latin typeface="Comic Sans MS"/>
              </a:rPr>
              <a:t>      </a:t>
            </a:r>
            <a:r>
              <a:rPr b="0" lang="el-GR" sz="3300" spc="-1" strike="noStrike">
                <a:solidFill>
                  <a:srgbClr val="336666"/>
                </a:solidFill>
                <a:latin typeface="Comic Sans MS"/>
              </a:rPr>
              <a:t>ΠΗΓΕΣ ΠΛΗΡΟΦΟΡΙΩΝ</a:t>
            </a:r>
            <a:r>
              <a:rPr b="0" lang="el-GR" sz="3300" spc="-1" strike="noStrike">
                <a:solidFill>
                  <a:srgbClr val="336666"/>
                </a:solidFill>
                <a:latin typeface="Arial Black"/>
              </a:rPr>
              <a:t> </a:t>
            </a:r>
            <a:endParaRPr b="0" lang="en-US" sz="3300" spc="-1" strike="noStrike">
              <a:solidFill>
                <a:srgbClr val="336666"/>
              </a:solidFill>
              <a:latin typeface="Arial Black"/>
            </a:endParaRPr>
          </a:p>
        </p:txBody>
      </p:sp>
      <p:sp>
        <p:nvSpPr>
          <p:cNvPr id="27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how-does-gps-work.ht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applications-of-gps.ht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coolweb.gr/ti-einai-gps-pos-leitourgei/</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www.explain.gr/index.php/2009-12-24-19-42-17/62--g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66"/>
                </a:solidFill>
                <a:latin typeface="Arial Black"/>
              </a:rPr>
              <a:t>GPS</a:t>
            </a:r>
            <a:endParaRPr b="0" lang="en-US" sz="6000" spc="-1" strike="noStrike">
              <a:solidFill>
                <a:srgbClr val="336666"/>
              </a:solidFill>
              <a:latin typeface="Arial Black"/>
            </a:endParaRPr>
          </a:p>
        </p:txBody>
      </p:sp>
      <p:pic>
        <p:nvPicPr>
          <p:cNvPr id="251" name="Picture 8" descr="ConstellationGPS"/>
          <p:cNvPicPr/>
          <p:nvPr/>
        </p:nvPicPr>
        <p:blipFill>
          <a:blip r:embed="rId1"/>
          <a:stretch/>
        </p:blipFill>
        <p:spPr>
          <a:xfrm>
            <a:off x="826920" y="1916280"/>
            <a:ext cx="3745080" cy="3960720"/>
          </a:xfrm>
          <a:prstGeom prst="rect">
            <a:avLst/>
          </a:prstGeom>
          <a:ln w="0">
            <a:noFill/>
          </a:ln>
        </p:spPr>
      </p:pic>
      <p:pic>
        <p:nvPicPr>
          <p:cNvPr id="252" name="Picture 9" descr="images"/>
          <p:cNvPicPr/>
          <p:nvPr/>
        </p:nvPicPr>
        <p:blipFill>
          <a:blip r:embed="rId2"/>
          <a:stretch/>
        </p:blipFill>
        <p:spPr>
          <a:xfrm>
            <a:off x="4356000" y="1905120"/>
            <a:ext cx="4032360" cy="1942920"/>
          </a:xfrm>
          <a:prstGeom prst="rect">
            <a:avLst/>
          </a:prstGeom>
          <a:ln w="0">
            <a:noFill/>
          </a:ln>
        </p:spPr>
      </p:pic>
      <p:pic>
        <p:nvPicPr>
          <p:cNvPr id="253" name="Picture 10" descr="ag_GPS_Mobile_Location_Operation_low_res"/>
          <p:cNvPicPr/>
          <p:nvPr/>
        </p:nvPicPr>
        <p:blipFill>
          <a:blip r:embed="rId3"/>
          <a:stretch/>
        </p:blipFill>
        <p:spPr>
          <a:xfrm>
            <a:off x="4427640" y="3860640"/>
            <a:ext cx="3960720" cy="208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336666"/>
                </a:solidFill>
                <a:latin typeface="Comic Sans MS"/>
              </a:rPr>
              <a:t>ΤΙ ΕΙΝΑΙ ΤΟ </a:t>
            </a:r>
            <a:r>
              <a:rPr b="0" lang="en-US" sz="3300" spc="-1" strike="noStrike">
                <a:solidFill>
                  <a:srgbClr val="336666"/>
                </a:solidFill>
                <a:latin typeface="Comic Sans MS"/>
              </a:rPr>
              <a:t>GPS</a:t>
            </a:r>
            <a:endParaRPr b="0" lang="en-US" sz="3300" spc="-1" strike="noStrike">
              <a:solidFill>
                <a:srgbClr val="336666"/>
              </a:solidFill>
              <a:latin typeface="Arial Black"/>
            </a:endParaRPr>
          </a:p>
        </p:txBody>
      </p:sp>
      <p:sp>
        <p:nvSpPr>
          <p:cNvPr id="255" name="PlaceHolder 2"/>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Κάθε δορυφόρος μεταδίδει ένα ηλεκτρομαγνητικό σήμα - μία δέσμη μικροκυμάτων - που αναγγέλλει την παρουσία του σε οποιοδήποτε άτομο στη Γη που διαθέτει ένα δέκτη έτοιμο να λάβει το σήμα. Συνεπώς, ένας λήπτης GPS λαμβάνει ανά πάσα στιγμή σήματα από τέσσερις δορυφόρους. Ο ενσωματωμένος ηλεκτρονικός υπολογιστής χρησιμοποιεί αυτά τα σήματα για να υπολογίσει την ακριβή σας απόσταση από καθένα από τους τέσσερις δορυφόρους και στη συνέχεια να υπολογίσει την ακριβή σας θέση επί του πλανήτη με απόκλιση λίγων μέτρων βάσει αυτών των αποστάσεων </a:t>
            </a:r>
            <a:r>
              <a:rPr b="0" lang="el-GR" sz="1800" spc="-1" strike="noStrike" u="sng">
                <a:solidFill>
                  <a:srgbClr val="99cc00"/>
                </a:solidFill>
                <a:uFillTx/>
                <a:latin typeface="Comic Sans MS"/>
                <a:hlinkClick r:id="rId1"/>
              </a:rPr>
              <a:t>http://eu.mio.com/el_gr/global-positioning-system_how-does-gps-work.htm</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57"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παγκόσμιο σύστημα προσδιορισμού θέσης (GPS) είναι ένα δίκτυο δορυφόρων που κινούνται σε τροχιά γύρω από τη Γη και μεταδίδουν ένα σήμα προς δέκτες GPS και συσκευές δορυφορικής πλοήγησης, παρέχοντας την ακριβή θέση, την ταχύτητα και το ύψος αν βρίσκεστε σε αεροσκάφος ή σε ορεινή περιοχή.</a:t>
            </a:r>
            <a:endParaRPr b="0" lang="en-US" sz="1600" spc="-1" strike="noStrike">
              <a:solidFill>
                <a:srgbClr val="000000"/>
              </a:solidFill>
              <a:latin typeface="Arial"/>
            </a:endParaRPr>
          </a:p>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ι χάρτες δεν παρέχονται από τους δορυφόρους GPS, οι οποίοι απλώς παρέχουν τον εντοπισμό της θέσης που στη συνέχεια τοποθετείται στους χάρτες από το δικό σας δέκτη GPS. Όλες οι συσκευές δορυφορικής πλοήγησης παρέχονται με προεγκαταστημένους χάρτες, αλλά για να εξασφαλίσετε ότι διαθέτετε τους πλέον πρόσφατους χάρτες για τη δική σας συσκευή δορυφορικής πλοήγησης, πρέπει να μεταφορτώνετε τακτικά το λογισμικό χαρτογράφησης GPS.</a:t>
            </a:r>
            <a:endParaRPr b="0" lang="en-US" sz="1600" spc="-1" strike="noStrike">
              <a:solidFill>
                <a:srgbClr val="000000"/>
              </a:solidFill>
              <a:latin typeface="Arial"/>
            </a:endParaRPr>
          </a:p>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α την ενημέρωση του λογισμικού χαρτογράφησης στη δική σας συσκευή GPS απαιτείται ένας ηλεκτρονικός υπολογιστής με σύνδεση στο Διαδίκτυο και το λογισμικό ενημέρωσης της συσκευής δορυφορικής πλοήγησης. Συνδέετε απλώς τη συσκευή δορυφορικής πλοήγησης στον ηλεκτρονικό υπολογιστή, ενεργοποιείτε το λογισμικό ενημέρωσης ενώ είστε συνδεδεμένοι στο Διαδίκτυο και οι πλέον πρόσφατοι χάρτες εγκαθίστανται στη δική σας συσκευή GPS. </a:t>
            </a:r>
            <a:r>
              <a:rPr b="0" lang="el-GR" sz="1600" spc="-1" strike="noStrike" u="sng">
                <a:solidFill>
                  <a:srgbClr val="99cc00"/>
                </a:solidFill>
                <a:uFillTx/>
                <a:latin typeface="Comic Sans MS"/>
                <a:hlinkClick r:id="rId1"/>
              </a:rPr>
              <a:t>http://coolweb.gr/ti-einai-gps-pos-leitourge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624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59" name="PlaceHolder 2"/>
          <p:cNvSpPr>
            <a:spLocks noGrp="1"/>
          </p:cNvSpPr>
          <p:nvPr>
            <p:ph/>
          </p:nvPr>
        </p:nvSpPr>
        <p:spPr>
          <a:xfrm>
            <a:off x="761760" y="1905120"/>
            <a:ext cx="5322600" cy="4038480"/>
          </a:xfrm>
          <a:prstGeom prst="rect">
            <a:avLst/>
          </a:prstGeom>
          <a:noFill/>
          <a:ln w="0">
            <a:noFill/>
          </a:ln>
        </p:spPr>
        <p:txBody>
          <a:bodyPr anchor="t">
            <a:normAutofit fontScale="95000"/>
          </a:bodyPr>
          <a:p>
            <a:pPr marL="325800" indent="-325800">
              <a:lnSpc>
                <a:spcPct val="80000"/>
              </a:lnSpc>
              <a:spcBef>
                <a:spcPts val="3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ά του GPS προέρχεται από τα αρχικά των λέξεων global positioning system, το οποίο ουσιαστικά σημαίνει σύστημα προσδιορισμού θέσης (στίγματος) στη γη. Το GPS είναι ένα σύστημα που αποτελείται από 24 δορυφόρους που βρίσκονται σε τροχιά στο διάστημα, σε απόσταση 11 χιλιάδων ναυτικών μιλίων από τη γη και κινούνται σε 6 διαφορετικές τροχιές. Οι δορυφόροι αυτοί βρίσκονται διαρκώς σε κίνηση, κάνοντας 2 πλήρεις περιφορές γύρω από τη γη σε λιγότερο από 24 ώρες. Αν το υπολογίσουμε με μαθηματικά θα δούμε ότι η ταχύτητά τους φτάνει τα 1,8 μίλια το δευτερόλεπτο !</a:t>
            </a:r>
            <a:endParaRPr b="0" lang="en-US" sz="1400" spc="-1" strike="noStrike">
              <a:solidFill>
                <a:srgbClr val="000000"/>
              </a:solidFill>
              <a:latin typeface="Arial"/>
            </a:endParaRPr>
          </a:p>
          <a:p>
            <a:pPr marL="325800" indent="-325800">
              <a:lnSpc>
                <a:spcPct val="80000"/>
              </a:lnSpc>
              <a:spcBef>
                <a:spcPts val="3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ά ενδιαφέροντα χαρακτηριστικά τους:</a:t>
            </a:r>
            <a:br>
              <a:rPr sz="1400"/>
            </a:br>
            <a:r>
              <a:rPr b="0" lang="el-GR" sz="1400" spc="-1" strike="noStrike">
                <a:solidFill>
                  <a:srgbClr val="000000"/>
                </a:solidFill>
                <a:latin typeface="Comic Sans MS"/>
              </a:rPr>
              <a:t>•Ο πρώτος δορυφόρος GPS εκτοξεύτηκε τον Φεβρουάριο του 1978. </a:t>
            </a:r>
            <a:br>
              <a:rPr sz="1400"/>
            </a:br>
            <a:r>
              <a:rPr b="0" lang="el-GR" sz="1400" spc="-1" strike="noStrike">
                <a:solidFill>
                  <a:srgbClr val="000000"/>
                </a:solidFill>
                <a:latin typeface="Comic Sans MS"/>
              </a:rPr>
              <a:t>   •Ο κάθε δορυφόρος ζυγίζει κάτι λιγότερο από 1 τόνο, και το πλάτος του δεν ξεπερνά τα 5 μέτρα με τις ηλιακές κυψέλες σε ανοιχτή θέση. </a:t>
            </a:r>
            <a:br>
              <a:rPr sz="1400"/>
            </a:br>
            <a:r>
              <a:rPr b="0" lang="el-GR" sz="1400" spc="-1" strike="noStrike">
                <a:solidFill>
                  <a:srgbClr val="000000"/>
                </a:solidFill>
                <a:latin typeface="Comic Sans MS"/>
              </a:rPr>
              <a:t>   •Η ισχύς του πομπού του είναι μέγιστο 50 watt. </a:t>
            </a:r>
            <a:br>
              <a:rPr sz="1400"/>
            </a:br>
            <a:r>
              <a:rPr b="0" lang="el-GR" sz="1400" spc="-1" strike="noStrike">
                <a:solidFill>
                  <a:srgbClr val="000000"/>
                </a:solidFill>
                <a:latin typeface="Comic Sans MS"/>
              </a:rPr>
              <a:t>   •Κάθε δορυφόρος εκπέμπει σε τρεις διαφορετικές συχνότητες. Τα GPS πολιτικής χρήσης χρησιμοποιούν τη συχνότητα 'L1', στα 1575.42 MHz. </a:t>
            </a:r>
            <a:br>
              <a:rPr sz="1400"/>
            </a:br>
            <a:r>
              <a:rPr b="0" lang="el-GR" sz="1400" spc="-1" strike="noStrike">
                <a:solidFill>
                  <a:srgbClr val="000000"/>
                </a:solidFill>
                <a:latin typeface="Comic Sans MS"/>
              </a:rPr>
              <a:t>    •Οι δορυφόροι GPS έχουν μέση διάρκεια ζωής 10 χρόνια. Η αντικατάστασή τους γίνεται κανονικά εδώ και χρόνια με νέους δορυφόρους </a:t>
            </a:r>
            <a:endParaRPr b="0" lang="en-US" sz="1400" spc="-1" strike="noStrike">
              <a:solidFill>
                <a:srgbClr val="000000"/>
              </a:solidFill>
              <a:latin typeface="Arial"/>
            </a:endParaRPr>
          </a:p>
        </p:txBody>
      </p:sp>
      <p:pic>
        <p:nvPicPr>
          <p:cNvPr id="260" name="Picture 8" descr="gps1"/>
          <p:cNvPicPr/>
          <p:nvPr/>
        </p:nvPicPr>
        <p:blipFill>
          <a:blip r:embed="rId1"/>
          <a:stretch/>
        </p:blipFill>
        <p:spPr>
          <a:xfrm>
            <a:off x="6227640" y="1844640"/>
            <a:ext cx="1943280" cy="1943280"/>
          </a:xfrm>
          <a:prstGeom prst="rect">
            <a:avLst/>
          </a:prstGeom>
          <a:ln w="0">
            <a:noFill/>
          </a:ln>
        </p:spPr>
      </p:pic>
      <p:pic>
        <p:nvPicPr>
          <p:cNvPr id="261" name="Picture 9" descr="gps_sv_bII"/>
          <p:cNvPicPr/>
          <p:nvPr/>
        </p:nvPicPr>
        <p:blipFill>
          <a:blip r:embed="rId2"/>
          <a:stretch/>
        </p:blipFill>
        <p:spPr>
          <a:xfrm>
            <a:off x="6227640" y="4149720"/>
            <a:ext cx="20955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μεγαλύτερο καλό που προσφέρει το σύστημα GPS σε σχέση με τα προηγούμενα συστήματα προσδιορισμού θέσης μέσω σταθμών εδάφους, είναι ότι το GPS δουλεύει ανεξάρτητα από τις καιρικές συνθήκες. Και βέβαια, στις δύσκολες συνθήκες είναι που το χρειάζεται κανείς περισσότερο.</a:t>
            </a:r>
            <a:br>
              <a:rPr sz="1600"/>
            </a:br>
            <a:r>
              <a:rPr b="0" lang="el-GR" sz="1600" spc="-1" strike="noStrike">
                <a:solidFill>
                  <a:srgbClr val="000000"/>
                </a:solidFill>
                <a:latin typeface="Comic Sans MS"/>
              </a:rPr>
              <a:t>Για να το δούμε απλοποιημένα: Κάθε δορυφόρος εκπέμπει ένα μήνυμα το οποίο λέει “Είμαι ο δορυφόρος νούμερο Χ, η θέση μου αυτή τη στιγμή είναι η Υ, και το μήνυμα αυτό στάλθηκε τη χρονική στιγμή Ζ” Το GPS μας λαμβάνει αυτή την πληροφορία, και φυλάει τα δεδομένα ephemeris, και αλμανάκ για να τα χρησιμοποιήσει και στη συνέχεια. Με βάση αυτή την πληροφορία επίσης, το GPS μπορεί να κάνει και διορθώσεις στο εσωτερικό του ρολόι ώστε να υπάρχει συγχρονισμός.. Ας δούμε όμως γιατί ο χρονικός προσδιορισμός του σήματος είναι απαραίτητος. Για να προσδιορίσει την ακριβή θέση του, το GPS συγκρίνει την ώρα που ο δορυφόρος εξέπεμψε το μήνυμα, με την ώρα που το μήνυμα ελήφθη από το GPS. Η διαφορά αυτή δείχνει στο GPS πόσο μακριά είναι ο δορυφόρος-αποστολέας. Αν τώρα προσθέσουμε και τις μετρήσεις που παίρνουμε και από τους άλλους δορυφόρους που βρίσκονται στην εμβέλειά μας, προσδιορίζουμε την ακριβή θέση μας με τριγωνομετρικούς υπολογισμούς. Αυτή ακριβώς είναι η δουλειά που κάνει το G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 αυτό χρειάζονται τουλάχιστον τρεις δορυφόροι ώστε να μπορεί να προσδιοριστεί το γεωγραφικό μήκος και πλάτος (latitude/longitude),  το στίγμα μας σε δύο διαστάσεις. Με περισσότερους από τρεις δορυφόρους διαθέσιμους, ένα GPS μπορεί να προσδιορίσει και την τρίτη διάσταση (το ύψος-altitude). Επειδή η πληροφορία αυτή εκπέμπεται συνεχώς από όλους τους δορυφόρους, το GPS μπορεί με τη διαφορά χρόνου και θέσης να προσδιορίσει και την ταχύτητα και την διεύθυνση που κινείται.</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Υπάρχουν πολλοί παράγοντες που αυξάνουν το σφάλμα στις μετρήσεις. Ο κυριότερος παράγοντας είναι αυτό που λέμε το Selective Availability (SA). Όπως λεει και η ίδια η λέξη, επίτηδες και επιλεκτικά ελαττώνεται η ακρίβεια του στίγματος από το ίδιο το σύστημα.</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ς ακόμα παράγοντας που επηρεάζει την ακρίβεια του GPS είναι η “γεωμετρία” των δορυφόρων. Με απλά λόγια, η γεωμετρική θέση των δορυφόρων είναι το σημείο που βρίσκεται ο καθένας σε σχέση με τους άλλους δορυφόρους, όπως φαίνεται από το GPS. Αν τώρα ένα GPS έχει στην εμβέλειά του τέσσερις δορυφόρους (που είναι αρκετοί για να δώσουν ένα ακριβές στίγμα) αλλά και οι τέσσερις είναι π.χ. βορειοδυτικά σε σχέση με το GPS, η “γεωμετρία” των δορυφόρων είναι πολύ κακ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7" name="PlaceHolder 2"/>
          <p:cNvSpPr>
            <a:spLocks noGrp="1"/>
          </p:cNvSpPr>
          <p:nvPr>
            <p:ph/>
          </p:nvPr>
        </p:nvSpPr>
        <p:spPr>
          <a:xfrm>
            <a:off x="762120" y="1905120"/>
            <a:ext cx="7696080" cy="4038480"/>
          </a:xfrm>
          <a:prstGeom prst="rect">
            <a:avLst/>
          </a:prstGeom>
          <a:noFill/>
          <a:ln w="0">
            <a:noFill/>
          </a:ln>
        </p:spPr>
        <p:txBody>
          <a:bodyPr anchor="t">
            <a:normAutofit fontScale="95000"/>
          </a:bodyPr>
          <a:p>
            <a:pPr marL="325800" indent="-3258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την πραγματικότητα, το GPS μπορεί να μην είναι σε θέση να δώσει καν στίγμα. Αυτό συμβαίνει γιατί όλες οι μετρήσεις της απόστασης από όλους τους δορυφόρους προέρχονται από την ίδια διεύθυνση, ΒΔ. Δηλαδή, τα τριγωνομετρικά δεδομένα που λαμβάνει το GPS όσον αφορά την περιοχή στην οποία βρίσκεται το στίγμα μας είναι ασαφή, η περιοχή που ορίζεται από τις τομές των αποστάσεων είναι πολύ μεγάλη, και έτσι ο ακριβής προσδιορισμός της θέσης του GPS είναι αδύνατος. Σε αυτή την περίπτωση το σφάλμα του στίγματος μπορεί να είναι της τάξης των 90 έως 150 μέτρων.</a:t>
            </a:r>
            <a:br>
              <a:rPr sz="1800"/>
            </a:br>
            <a:r>
              <a:rPr b="0" lang="el-GR" sz="1800" spc="-1" strike="noStrike">
                <a:solidFill>
                  <a:srgbClr val="000000"/>
                </a:solidFill>
                <a:latin typeface="Comic Sans MS"/>
              </a:rPr>
              <a:t>Στην αντίθετη περίπτωση, με τέσσερις δορυφόρους στην εμβέλεια του GPS κατανεμημένους στα τέσσερα σημεία του ορίζοντα, η ακρίβεια του στίγματος είναι η μέγιστη δυνατή. Η καλύτερη γεωμετρία των δορυφόρων είναι όταν αυτοί βρίσκονται ανά 90 μοίρες σε σχέση με το GPS. Το </a:t>
            </a:r>
            <a:br>
              <a:rPr sz="1800"/>
            </a:br>
            <a:r>
              <a:rPr b="0" lang="el-GR" sz="1800" spc="-1" strike="noStrike">
                <a:solidFill>
                  <a:srgbClr val="000000"/>
                </a:solidFill>
                <a:latin typeface="Comic Sans MS"/>
              </a:rPr>
              <a:t>στίγμα μας βρίσκεται στην περιοχή που ορίζεται εκεί που τέμνονται οι διευθύνσεις της απόστασης από τους τέσσερις δορυφόρους, και η περιοχή αυτή είναι τώρα πάρα πολύ μικρή. Ακόμα και με το Selective Availability, η ακρίβεια του στίγματος είναι της τάξης των 30 μέτρω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 άλλο πρόβλημα που επηρεάζει την ακρίβεια του στίγματος είναι οι αντανακλάσεις. Με απλά λόγια, κάθε ραδιοσήμα ανακλάται πάνω στα διάφορα αντικείμενα του φυσικού περιβάλλοντος και το σήμα φτάνει στο GPS καθυστερημένα αφού έχει ταξιδέψει μεγαλύτερη απόσταση από την αναμενόμενη. Αυτός ο επιπλέον χρόνος κάνει το GPS να πιστεύει ότι ο δορυφόρος που το εξέπεμψε βρίσκεται μακρύτερα από ότι είναι στην πραγματικότητα και έτσι προσδιορίζει λανθασμένα το σχετική θέση του.</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υτό το επιπλέον σφάλμα επιβαρύνει την ακρίβεια του στίγματος με άλλα 4-5 μέτρα.</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πιπλέον, η ακρίβεια ενός GPS μπορεί να βελτιωθεί στα 5 έως και 1 μέτρο με μια διαδικασία γνωστή και ως Differential GPS (DGPS). Με το DGPS, υπάρχουν ουσιαστικά δύο δέκτες μέσα σε μία συσκευή, ο δεύτερος υπολογίζει τις διορθώσεις που χρειάζονται στα δεδομένα που λαμβάνονται από τους δορυφόρους.</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πό την 1η Απριλίου του 2000, το Αμερικανικό Υπουργείο Άμυνας αποφάσισε να τερματίσει την εφαρμογή του εκούσιου σφάλματος Selective Availability, με αποτέλεσμα οι ενδείξεις του GPS να είναι ακριβείς έως και 3 μέτρα. </a:t>
            </a:r>
            <a:r>
              <a:rPr b="0" lang="el-GR" sz="1600" spc="-1" strike="noStrike" u="sng">
                <a:solidFill>
                  <a:srgbClr val="99cc00"/>
                </a:solidFill>
                <a:uFillTx/>
                <a:latin typeface="Comic Sans MS"/>
                <a:hlinkClick r:id="rId1"/>
              </a:rPr>
              <a:t>http://www.explain.gr/index.php/2009-12-24-19-42-17/62--g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2:34Z</dcterms:created>
  <dc:creator>@</dc:creator>
  <dc:description/>
  <dc:language>en-US</dc:language>
  <cp:lastModifiedBy>ΕΛΕΝΗ</cp:lastModifiedBy>
  <dcterms:modified xsi:type="dcterms:W3CDTF">2012-04-03T13:18:50Z</dcterms:modified>
  <cp:revision>3</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